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BB4-F9FE-45DD-B659-426C733A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B36-DD10-4D71-942A-A09DF7D2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C4A-E7CB-4AF2-B70D-F40A1EE9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BCF-2EBD-496C-AB83-FFC699C1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3C4-2A10-4163-8020-05F8CD83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2E8-C79D-48BB-AF24-99598DC6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AED-4195-4BAD-A8F0-A9C69650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D0D-2C33-4821-ADF4-A63DA475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E05-7FEC-48DD-8AB7-E6F6C2F0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DF8-AAE6-4471-9E72-17897A9A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511-F33A-45BF-8CF2-6405497A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9C0-8D19-445D-9AC5-7A8E4997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C054-6A13-448A-9970-0822D48AD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eliminary tes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9"/>
          <p:cNvSpPr/>
          <p:nvPr/>
        </p:nvSpPr>
        <p:spPr>
          <a:xfrm>
            <a:off x="5486400" y="1981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ontent Placeholder 12" descr="multitrack_emily.tif"/>
          <p:cNvPicPr/>
          <p:nvPr/>
        </p:nvPicPr>
        <p:blipFill>
          <a:blip r:embed="rId1"/>
          <a:stretch/>
        </p:blipFill>
        <p:spPr>
          <a:xfrm>
            <a:off x="68400" y="1981080"/>
            <a:ext cx="4673520" cy="350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572000" y="2530440"/>
          <a:ext cx="4343400" cy="238284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pid Intensification (R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eady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ily 2005 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rina 2005 (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ren 2007 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ilippe 2005 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45"/>
          <p:cNvSpPr/>
          <p:nvPr/>
        </p:nvSpPr>
        <p:spPr>
          <a:xfrm>
            <a:off x="4510080" y="1020600"/>
            <a:ext cx="4038480" cy="28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861480" y="22860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mparison of axisymmetric structures for RI and S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84"/>
          <p:cNvSpPr/>
          <p:nvPr/>
        </p:nvSpPr>
        <p:spPr>
          <a:xfrm>
            <a:off x="3919320" y="12160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5"/>
          <p:cNvSpPr/>
          <p:nvPr/>
        </p:nvSpPr>
        <p:spPr>
          <a:xfrm>
            <a:off x="7219800" y="1260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118" descr="vt_PR.jpg"/>
          <p:cNvPicPr/>
          <p:nvPr/>
        </p:nvPicPr>
        <p:blipFill>
          <a:blip r:embed="rId1"/>
          <a:stretch/>
        </p:blipFill>
        <p:spPr>
          <a:xfrm>
            <a:off x="533520" y="685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120" descr="vt_SS.jpg"/>
          <p:cNvPicPr/>
          <p:nvPr/>
        </p:nvPicPr>
        <p:blipFill>
          <a:blip r:embed="rId2"/>
          <a:stretch/>
        </p:blipFill>
        <p:spPr>
          <a:xfrm>
            <a:off x="4495680" y="6094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123" descr="vt_PR-SS.jpg"/>
          <p:cNvPicPr/>
          <p:nvPr/>
        </p:nvPicPr>
        <p:blipFill>
          <a:blip r:embed="rId3"/>
          <a:stretch/>
        </p:blipFill>
        <p:spPr>
          <a:xfrm>
            <a:off x="2514600" y="3828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10" descr="vr_PR.jpg"/>
          <p:cNvPicPr/>
          <p:nvPr/>
        </p:nvPicPr>
        <p:blipFill>
          <a:blip r:embed="rId1"/>
          <a:stretch/>
        </p:blipFill>
        <p:spPr>
          <a:xfrm>
            <a:off x="457200" y="6094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12" descr="vr_SS.jpg"/>
          <p:cNvPicPr/>
          <p:nvPr/>
        </p:nvPicPr>
        <p:blipFill>
          <a:blip r:embed="rId2"/>
          <a:stretch/>
        </p:blipFill>
        <p:spPr>
          <a:xfrm>
            <a:off x="4876920" y="6094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15" descr="vr_PR-SS.jpg"/>
          <p:cNvPicPr/>
          <p:nvPr/>
        </p:nvPicPr>
        <p:blipFill>
          <a:blip r:embed="rId3"/>
          <a:stretch/>
        </p:blipFill>
        <p:spPr>
          <a:xfrm>
            <a:off x="3048120" y="36576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61480" y="15228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mparison of axisymmetric structures for RI and S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4" descr="vor_PR.jpg"/>
          <p:cNvPicPr/>
          <p:nvPr/>
        </p:nvPicPr>
        <p:blipFill>
          <a:blip r:embed="rId1"/>
          <a:stretch/>
        </p:blipFill>
        <p:spPr>
          <a:xfrm>
            <a:off x="533520" y="8380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vor_SS.jpg"/>
          <p:cNvPicPr/>
          <p:nvPr/>
        </p:nvPicPr>
        <p:blipFill>
          <a:blip r:embed="rId2"/>
          <a:stretch/>
        </p:blipFill>
        <p:spPr>
          <a:xfrm>
            <a:off x="4648320" y="8380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8" descr="vor_PR-SS.jpg"/>
          <p:cNvPicPr/>
          <p:nvPr/>
        </p:nvPicPr>
        <p:blipFill>
          <a:blip r:embed="rId3"/>
          <a:stretch/>
        </p:blipFill>
        <p:spPr>
          <a:xfrm>
            <a:off x="2438280" y="382896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861480" y="22860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mparison of axisymmetric structures for RI and S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95280" y="1600200"/>
          <a:ext cx="6080400" cy="1781280"/>
        </p:xfrm>
        <a:graphic>
          <a:graphicData uri="http://schemas.openxmlformats.org/drawingml/2006/table">
            <a:tbl>
              <a:tblPr/>
              <a:tblGrid>
                <a:gridCol w="2027520"/>
                <a:gridCol w="2027160"/>
                <a:gridCol w="2025720"/>
              </a:tblGrid>
              <a:tr h="3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st Track/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hwrf) low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hwrf) high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gfdl) low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gfdl) high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371600" y="3809880"/>
          <a:ext cx="6080040" cy="1811520"/>
        </p:xfrm>
        <a:graphic>
          <a:graphicData uri="http://schemas.openxmlformats.org/drawingml/2006/table">
            <a:tbl>
              <a:tblPr/>
              <a:tblGrid>
                <a:gridCol w="2027160"/>
                <a:gridCol w="2027160"/>
                <a:gridCol w="2025720"/>
              </a:tblGrid>
              <a:tr h="40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st Track/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lse Ala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rect Rej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hwrf) low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hwrf) high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gfdl) low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-x (gfdl) high 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"/>
          <p:cNvSpPr/>
          <p:nvPr/>
        </p:nvSpPr>
        <p:spPr>
          <a:xfrm>
            <a:off x="2762640" y="5857560"/>
            <a:ext cx="396468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nly using simulations that are available for all models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 are from John Cangia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I Table and Future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01:02:38Z</dcterms:created>
  <dc:creator>JunZhang</dc:creator>
  <dc:description/>
  <dc:language>en-US</dc:language>
  <cp:lastModifiedBy> </cp:lastModifiedBy>
  <dcterms:modified xsi:type="dcterms:W3CDTF">2010-06-16T20:38:30Z</dcterms:modified>
  <cp:revision>45</cp:revision>
  <dc:subject/>
  <dc:title>Slide 1</dc:title>
</cp:coreProperties>
</file>